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C86-8A64-4DB0-84F4-25AF6048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6B5-230D-4C87-A671-36C8CB94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C2C41-F4FE-4909-8B66-E311E856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38EB3-5092-4F24-B04E-FC0C1F01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7D186-213D-4038-A4A9-91C4DC26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790B4-BE54-47DF-8BA4-972C3E8B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9F433-78DD-4E11-8202-31DD0E2A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3A9DB-D3A8-44DD-AA13-1004C628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6072E-D0CE-45A0-9EBA-F7FFD1B9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B7365-891B-489C-BB97-4FB46A69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5FFF7-8C96-4D99-99D5-CE2123A0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DD34C-ED21-42EC-A7AF-5A9DDCFC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BA9-67CD-45E0-BD02-32AE72E4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BC518-E10D-4B0A-99D2-C99D9565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F6EEA-06EA-43F8-8341-2936E073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1669C-33ED-4C16-B35E-3AFDA1AF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B4D60-76CB-42B9-9FCC-DC50CC46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8B1F1-F1C7-41A6-ADEF-0A308206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72582-17ED-4AD0-B541-1A132F08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30DBC-6A1A-4A20-9266-F9370179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25511-120A-4C29-A772-41314C8F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EBAB7-1469-4614-BFBB-52A5E795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619D3-79D1-46AD-A099-6A5A53A8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A50-3189-4E04-B08B-14C5214A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416E0-2B50-4E4D-86BE-3D66FA15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CD820-8DF6-429A-B9E3-9CB8BA48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91BB0-43F4-4368-B123-6940B14F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4DE2E-BD58-438F-ABBC-C6B9D5D7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A0FF2-531C-406D-8D18-40854D07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65B5D-C6E1-4996-A291-0A8AE5DE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6A201-BA1D-48D6-9FAB-FDA16666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6BC88-AA04-49D9-8356-1D901A04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C28E2-0AE3-4E26-BF55-A9958E98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521F9-B2CB-4D44-9A0C-5B556B35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99CA-2BB5-44A8-9F70-7FC1F3E6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79FE1-7850-43DB-B65D-C7ACE652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A4930-2A14-4562-8745-4805DE8E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BE17A-61D0-4F21-A1BD-0D36168E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4CC0B-5F28-40DA-A7A2-2081653D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9FC74-607E-494C-A443-30E18B64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73793-EE48-439A-883F-2F140526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97B59-5CBB-4739-BC22-15B220C4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02C3A-0E50-43E2-B638-C827767E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01DBD-1022-44C7-9779-286CA20C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99272-0AB4-4A57-9C96-C971A1DB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16C0-E626-47B9-B6EB-3057EC15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53C90-EA57-461C-AAB0-B3BFAF97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4FC40-D699-4FAA-BF9A-1E4494A5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BF9D4-F36C-43F2-9302-462F0CFC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F867A-8F61-4378-8404-42084315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84D50-1D39-4E15-9087-EC60CBBE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72CA2-9F5B-4ED0-BA5E-6C5EAD5B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D36E4-25DC-44C3-B367-3A7C9014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4CD45-317D-4BF8-9752-0299F88C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EE9CD-77B8-4DCE-A73A-70134D5B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DD819-E23E-47FF-8697-A8C54181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6FAC-D694-48C4-8614-6B593FC7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F6270-5026-45C5-A4BE-15824E33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8F2603-4238-4544-BC4A-58946DCA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4141F-CEAB-43D4-A30C-5A7ADF3A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F9E8A-92AE-4C03-944B-9864F0A1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2D244-8745-4F99-AD55-9B7DAC13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86E5D-E187-4A6C-83AF-64B40C92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05C76-E27B-4B64-B35F-BB0CFF54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72E2F-36AE-48E7-B195-692A6004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93FFD-1A45-4B68-B6EA-713AAD04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0C03A-DE93-48B8-8915-A11401F3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3ADD-B2C6-4326-81A7-16FF5028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70279-83F3-4113-B3AD-CFD29840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7F83A-88A9-400A-BC83-217CB7CE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C5643-2286-487A-9C1C-533CAD91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2F2AC-5972-448D-B6D9-F407013C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032D0-D8B2-490D-9C53-2702755E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32107-657D-460C-9A34-3B23B93C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09DAA-E71F-4FF4-AE4B-B6E5FF30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D5BEC-EA48-41A3-8F67-510ECAF8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FAE13-CBA8-478E-BA91-D6CD3DAC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CC873C-4D38-4FC4-B197-FD404862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9DA3-0B9E-4009-99AF-E56BDC77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A3C472-F483-4444-AF0C-31315551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4DC56F-239E-4376-84C6-3DBBE307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06FF4D-882F-4D25-BCCB-19C2C919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80F0CD-4D4B-4760-B9A8-53D760D3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33E5F-79D6-4210-A759-C9E83A31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819B8D-1633-4BCB-9167-BDEC6937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C1AD7C-A9A8-4594-B075-2CBF5621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7088C9-30E5-4D90-99C8-A9E8F236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2CC5CB-20AA-41C2-A8DF-6452E986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BA36E-035A-4549-B130-C6471FC4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2D65-81AE-4746-93EF-0C481110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9E57E-E128-426C-996E-F52649DB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C26203-5238-4F35-9F19-6521C91E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3D1C6B-7866-4F72-8C37-225F838A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DB27E-58DF-484D-8982-7F91438C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55654C-12CE-4A2A-9D01-1ED0DB38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94BB39-AD43-4475-AF17-1CB2C7F6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F2EBBD-52EE-4DDB-9FF5-05B53D52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D554A-992B-4990-844E-D163AB5D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2D3CC1-1E66-4311-977C-7B231521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9905B0-8555-479C-A7D6-7CA5253B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8843-2C95-43D9-B5EC-8001B5C2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58BC3-A586-42FD-BB99-67655B9E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66AD89-30CF-484B-90A8-4F947CF0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E5D58D-2EF4-4718-A0F8-42CD3360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A73FB5-E238-4BC1-9577-66590A3B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E6FD9B-5598-4683-AB9C-4512C898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30814F-4C02-4AEA-854E-C10505DF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7443D-B987-4792-B0BE-81D345DB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ECC35-4860-4C03-A5BD-1C9BE914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CA7B5C-06F6-404F-817F-20AD38B0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84C80C-6857-4FF3-A9E1-35C894FE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2A8-F3A8-4209-8737-65FEBE6F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ED71-2660-4BA0-8662-EC9E5EBE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4C888C-CB94-4D8F-8276-57C75009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74837-4AAD-4AE8-A70F-511234BD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467C6C-21CC-464F-A3B8-8906E802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5E7C93-ED8E-4295-A4A1-37233D5B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78CA0A-5B50-417B-9E47-F0A2E888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436CF-1B52-445D-890D-10852B84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CBF624-C33E-41F2-AB4B-5649FA5D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359F42-6EAC-4A23-8FBB-4988A20D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E46CF-AE20-479D-BC38-61AF42EF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4CD5E7-BE17-4A2D-AF71-1717F096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985D-4550-46A7-BD80-E81D9728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F14FB8-88ED-464A-9535-874DB22F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E9B32-D264-42CB-BAD2-F46809E9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1A2B85-4A1B-4AAD-87D1-345062BC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3FA56-8518-47F6-B4E4-5AF4CDD9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4EC066-2C0A-45EF-90D2-8FF1BDAF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134C2C-C63A-44F0-BCE8-58D7ED28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FC0A9-2516-4295-8966-1ADEA8CF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8A9D4A-37FE-4095-844B-C42C8F5A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9F5920-C5AA-4602-85D7-8D8DD7CD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4A6EF8-C4C4-45AF-BB4A-0210F172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564C-67AF-4DFE-84B1-1092209A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54B2F2-9F61-4679-A1BB-E1F1566C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9B47E3-F16C-4D96-8B8E-397F9227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9BB003-0E24-4CFC-B8B3-EA2A7B22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E240F-3BD0-46EA-93ED-7DE235D6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5F356F-0F03-4D94-922E-ABEA1F96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5DE95D-3E59-45B1-81B4-D377AA37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3035E4-1731-48C6-B261-872458B4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CAE431-AEB4-4FB2-86D3-F4D543B8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5F7004-73DF-46D7-8C3E-8CB5619A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C69703-23E2-4C87-B481-77DF4B21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1ED7-7684-4DB4-A449-C15FB1AA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EB99E4-4054-4779-99C1-C6B3D49F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0AE527-74B7-418D-9880-D95B1D28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9FED1B-3E1C-4F48-BFE0-573641D2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DABE88-8A9D-49D5-A92F-428B6102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B3A9E-0B99-4106-A82D-C88B3375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1EE605-5C32-4D8D-A7CC-ED22BE9E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AEA941-EF53-4F2A-9902-541AF18E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92D0B3-CD7B-45AD-8E91-E488009F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441931-6424-44C9-BCC3-A361C216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41DB72-31AB-4AEA-B174-7959430C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CCA9-C251-4E18-BB81-E97F7C8D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4E7034-BC88-448F-8A2E-E701B01D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50DB19-137D-4CFE-88B3-725D0ABF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D3170E-09F8-4E53-83E3-2D6FA776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874BAD-0232-4031-B9BB-7C1B0093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340918-C673-4EAC-917C-B6E198ED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C6DADD-379F-4DA6-975C-13A76145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9603E5-E960-4021-B7B8-C108F657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629C74-0361-40F3-B176-DCEEA1DF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38C6E3-0B9F-4379-B545-F77B394C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79DD39-CD29-452C-9A82-7D1EA2F0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A92BB-7691-4A6D-9277-54DC7CD0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E098E0-03D5-4F9C-B667-03DABFD3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C73F76-7BA8-4C8D-8B9C-55846DF0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DF9A36-533B-40A8-A4DD-F7AC05BE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AAAF3-1316-4FED-A759-A7BC6B2D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49B1B-2DE8-4C63-80FC-48170441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CCBBA-1CB9-4AD8-91AB-3C4005DB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7615A-B334-42A0-BC31-F3E4312D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AF5-CB71-4A23-8416-A96D5732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7C0EB-CC8C-4252-9E79-2D82E05F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42BE9-03E9-4E24-ADDC-13656872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9C813-E833-4FEF-9588-ABE2930C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520C-88F6-4F0A-BEE2-683B4D88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152C2-17AA-4445-9897-D27A339E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61551-0630-4DFB-89FC-C74A3DA2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9FD5E-7D71-4E92-B7D8-7624D6C2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5F1D5-AC38-4169-9601-A82AD7E6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6B62E-06FD-457D-A24E-CDE2FE9D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B23D-D7C3-4389-8766-F44A5B3A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C62-B7AA-43E0-B6CB-FC20CDC6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1ED1B-7284-48D3-8FB0-E8C530FF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17C49-6711-44D4-AA3A-B00237D2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6B6C8-6486-4929-BD0C-76E6C04C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E9FB6-3DF3-4211-B30E-44EDDAFE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888DE-CEE7-4F34-B2BC-49A73B30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908AB-D150-417D-A553-377EF042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5553-F857-4348-9796-020EBD41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F6C23-DFFC-465C-B3A9-BF4C9AF3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9A992-1856-4CB9-B71E-6B76755A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9A9F5-4E76-4E7D-ABFB-0F91A074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062-CFE6-4D9A-AC46-F517A98B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5556A-C5ED-4A98-BA89-07B288C9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A627E-E60F-40F6-9288-118A1501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BD890-B0FA-4E91-9E9F-41A64474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3ABEA-B986-4AC2-A7DE-C46B9061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29A0B-5724-4C6F-92F4-7E9464AB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E7C76-B311-4096-AA1D-64815AF4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8B6BA-8ECF-4753-9B7A-A353A45F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EEBF4-6A2E-4416-AFF3-6875FA40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7DAE8-A124-4FAE-A7C5-16BD161E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954A0-41D0-495E-A6C0-270A10C7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C04-68AE-4BCE-93E0-BF1CD996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4D55F-AF7A-492A-8A37-066B857D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C30B5-9AD1-4BB2-972B-2E27B979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A463E-B5C4-4B5B-B909-49CD4F8B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5D05B-BBD5-4AC7-A646-0198BBA3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9E76C-CFA6-4A68-AAA9-1B9E9ECD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C7DD7-5257-4593-8267-4FB2F700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734CB-9321-4A28-B863-608C2C01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6FD35-FD28-4B44-B10C-C6B300B2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95008-EEED-45C0-A352-63EABE43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07D6B-AAE8-4492-B51D-1EAD3285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47B-30AE-4863-87BC-C3DA59DC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E4538-0FFD-4517-B20B-AA79A34F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926D9-291C-41D9-9004-9111963B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FB346-01CD-402F-B483-FD50219C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D59E6-B139-4A6A-B3BB-E8A457A0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11560-98D2-4D1E-AECD-507FFE01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6F907-FA0B-4584-95C7-CD449DB1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EEEBE-74D3-4695-9367-F4255E66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2FF32-C866-46E9-9AD2-6F9438DA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B749E-F974-4DD0-8A9F-D84DA79F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726D2-4394-449A-9CF1-63235612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92A-02EB-43AF-85E2-5029B825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E83E3-B182-460C-AE55-69472B10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5521E-3750-4A01-8299-2A64AE29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65CB1-3590-46FD-8E19-6A2588E2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40F6C-DB3D-4C27-9A1E-5E4C739A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9B0E1-068C-49C2-B1AA-D2E87FD7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4BF93-2E16-478D-A387-54E796D5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72962-7869-4B02-81A2-6E6083E4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E2ED2-60BF-42F1-A461-B4015DF9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14E56-8492-465F-BD5A-F25B4F81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59C7F-B7E7-4712-8503-4E7A62E4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9E6A-9B96-4841-85C2-AFDDAB77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E8DD3-8D72-49F9-9F8A-4717A1B0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D21CF-E5E9-4F44-B74C-505C2243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7C826-4AA0-4890-8860-6BA768B0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F815C-1B10-48DE-BE1B-50E2556C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B8FB1-BB87-4354-8AB4-95C4723F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B18DD-39CB-47B7-A212-324D0DD3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E1B2F-2CE4-4D43-8FE0-9158FD3E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9609B-52F6-4CD6-AC74-B0A68544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03EAC-E5AD-45C3-8BE0-46A442CF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AE81F-1B47-47C0-8C0E-FB70DBCF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468E-EBA4-4151-B215-69A3C80F27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4330-55C1-4599-AF10-80AEF642C1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96E5-1C58-4AC7-99AB-4D608A8ECE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553E-479A-4E9E-9439-2AAA7E0B95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1B62-EDED-49B3-932C-50C8464BD3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EF76-03F5-427B-B1AE-5A3D37633C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6B3B-4603-4086-8308-3F58D691EC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AEAE-DEC0-4170-8DA2-90592BE442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477A-5867-4D05-ADA1-C9A7BAD023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9570-ABCB-4510-8C11-2B17307FBF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87D3-C6D7-48A0-BBB3-657505D770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E91D-D7F7-4605-A82A-BDC4BC6BCE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40F0-9D63-4F59-9975-6FDB4755A7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06B8-9516-4F60-B738-E5E678FC97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B217-4FAC-463B-88F8-9B9EB4A01C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328C-931E-43C6-89FF-B3E39FCDD2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E0EF-C946-432C-AE00-BA2808392B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8FEF-D18B-481B-AC09-3E3EA6B71B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47D0-6D77-46FB-9267-AAEFEF570B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ADBE-396C-4B54-A815-115C5873BE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FB86-D9ED-41F1-AB5D-3DEEC5A6EF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7E04-E980-4353-8159-33C17B908C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F078-BD76-4E56-AF36-CB6589D3D7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A60C-7050-4DC2-8185-8AF5119AFB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BE22-6663-475F-A026-D9AAEB6DDC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0A96-28DC-4296-9289-D7C1837E97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7311-13E4-4F2E-B807-28B8159702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862F-F125-49F0-ABD7-8D74BD5F6A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5226-A388-4B5A-898F-79D01535C8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09F5-0AC5-4188-A2C6-13BB79022B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E522-EEAA-4D57-AC32-A387752F20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D225-3C99-4893-9F86-058ABFCE74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1F18-3C7E-42BA-9266-958AA929C8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7832-3DBC-45C9-93C5-542B43BB6B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381B-CC08-4DD1-B9B6-954D8BF62C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C9BB-F954-4843-BC38-38F6B5B3C8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7BBA-63FC-4A7E-98F6-9392936579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E011-41C2-4A66-AE08-047AD726C6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AD38-7694-4ABF-8C8D-E71D3C32E9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9D0A-003F-434E-B0F5-E34629206E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81320" y="2909880"/>
            <a:ext cx="45813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547560" y="1895400"/>
            <a:ext cx="8048880" cy="30672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663640" cy="935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2664000" cy="934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684360" y="3068640"/>
            <a:ext cx="8208720" cy="512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539640" y="3687840"/>
            <a:ext cx="8209080" cy="512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539640" y="4307040"/>
            <a:ext cx="820908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8609" descr=""/>
          <p:cNvPicPr/>
          <p:nvPr/>
        </p:nvPicPr>
        <p:blipFill>
          <a:blip r:embed="rId1"/>
          <a:stretch/>
        </p:blipFill>
        <p:spPr>
          <a:xfrm>
            <a:off x="299880" y="1341360"/>
            <a:ext cx="8544240" cy="537228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8610" descr=""/>
          <p:cNvPicPr/>
          <p:nvPr/>
        </p:nvPicPr>
        <p:blipFill>
          <a:blip r:embed="rId2"/>
          <a:stretch/>
        </p:blipFill>
        <p:spPr>
          <a:xfrm>
            <a:off x="108000" y="144360"/>
            <a:ext cx="4162320" cy="1123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900000" y="3386160"/>
            <a:ext cx="6336000" cy="5126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870120" y="4033800"/>
            <a:ext cx="6335640" cy="907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900000" y="5099040"/>
            <a:ext cx="6336000" cy="5126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684360" y="5791320"/>
            <a:ext cx="6335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67585" descr=""/>
          <p:cNvPicPr/>
          <p:nvPr/>
        </p:nvPicPr>
        <p:blipFill>
          <a:blip r:embed="rId1"/>
          <a:stretch/>
        </p:blipFill>
        <p:spPr>
          <a:xfrm>
            <a:off x="733320" y="981000"/>
            <a:ext cx="7677360" cy="226692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67586" descr=""/>
          <p:cNvPicPr/>
          <p:nvPr/>
        </p:nvPicPr>
        <p:blipFill>
          <a:blip r:embed="rId2"/>
          <a:stretch/>
        </p:blipFill>
        <p:spPr>
          <a:xfrm>
            <a:off x="262080" y="3422520"/>
            <a:ext cx="8619840" cy="22384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4471920" y="1542960"/>
            <a:ext cx="892080" cy="5130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7740720" y="1484280"/>
            <a:ext cx="892080" cy="5126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4643280" y="2147760"/>
            <a:ext cx="892440" cy="513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7581960" y="2205000"/>
            <a:ext cx="892080" cy="5126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7"/>
          <a:stretch/>
        </p:blipFill>
        <p:spPr>
          <a:xfrm>
            <a:off x="2268360" y="3948120"/>
            <a:ext cx="719280" cy="5126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8"/>
          <a:stretch/>
        </p:blipFill>
        <p:spPr>
          <a:xfrm>
            <a:off x="5148360" y="4005360"/>
            <a:ext cx="718920" cy="5126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9"/>
          <a:stretch/>
        </p:blipFill>
        <p:spPr>
          <a:xfrm>
            <a:off x="7726320" y="4005360"/>
            <a:ext cx="949320" cy="512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0"/>
          <a:stretch/>
        </p:blipFill>
        <p:spPr>
          <a:xfrm>
            <a:off x="1893960" y="4653000"/>
            <a:ext cx="949320" cy="5126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1"/>
          <a:stretch/>
        </p:blipFill>
        <p:spPr>
          <a:xfrm>
            <a:off x="5176800" y="4653000"/>
            <a:ext cx="719280" cy="5126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2"/>
          <a:stretch/>
        </p:blipFill>
        <p:spPr>
          <a:xfrm>
            <a:off x="8272440" y="4681440"/>
            <a:ext cx="71928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85640" y="1266840"/>
            <a:ext cx="8172720" cy="4324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740720" y="5084640"/>
            <a:ext cx="576360" cy="51300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30" descr=""/>
          <p:cNvPicPr/>
          <p:nvPr/>
        </p:nvPicPr>
        <p:blipFill>
          <a:blip r:embed="rId3"/>
          <a:stretch/>
        </p:blipFill>
        <p:spPr>
          <a:xfrm>
            <a:off x="1720800" y="3556080"/>
            <a:ext cx="4524480" cy="695160"/>
          </a:xfrm>
          <a:prstGeom prst="rect">
            <a:avLst/>
          </a:prstGeom>
          <a:ln w="0">
            <a:noFill/>
          </a:ln>
        </p:spPr>
      </p:pic>
      <p:pic>
        <p:nvPicPr>
          <p:cNvPr id="925" name="图片 60431" descr=""/>
          <p:cNvPicPr/>
          <p:nvPr/>
        </p:nvPicPr>
        <p:blipFill>
          <a:blip r:embed="rId4"/>
          <a:stretch/>
        </p:blipFill>
        <p:spPr>
          <a:xfrm>
            <a:off x="1735200" y="4694400"/>
            <a:ext cx="4543200" cy="6667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740720" y="4508640"/>
            <a:ext cx="5763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614520" y="2362320"/>
            <a:ext cx="7914960" cy="213336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59411" descr=""/>
          <p:cNvPicPr/>
          <p:nvPr/>
        </p:nvPicPr>
        <p:blipFill>
          <a:blip r:embed="rId2"/>
          <a:stretch/>
        </p:blipFill>
        <p:spPr>
          <a:xfrm>
            <a:off x="1316160" y="2533680"/>
            <a:ext cx="4533840" cy="63828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59412" descr=""/>
          <p:cNvPicPr/>
          <p:nvPr/>
        </p:nvPicPr>
        <p:blipFill>
          <a:blip r:embed="rId3"/>
          <a:stretch/>
        </p:blipFill>
        <p:spPr>
          <a:xfrm>
            <a:off x="1330200" y="3643200"/>
            <a:ext cx="4496040" cy="638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7394400" y="400536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7451640" y="3414600"/>
            <a:ext cx="57636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633240" y="1442880"/>
            <a:ext cx="7877520" cy="39722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2584440" y="2736720"/>
            <a:ext cx="576360" cy="5130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4356000" y="2147760"/>
            <a:ext cx="576360" cy="513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6084720" y="272268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2556000" y="3832200"/>
            <a:ext cx="576000" cy="5126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4211640" y="322740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5940360" y="322740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8"/>
          <a:stretch/>
        </p:blipFill>
        <p:spPr>
          <a:xfrm>
            <a:off x="1835280" y="4941720"/>
            <a:ext cx="576000" cy="513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9"/>
          <a:stretch/>
        </p:blipFill>
        <p:spPr>
          <a:xfrm>
            <a:off x="4356000" y="434988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0"/>
          <a:stretch/>
        </p:blipFill>
        <p:spPr>
          <a:xfrm>
            <a:off x="6084720" y="4941720"/>
            <a:ext cx="57636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266760" y="1662120"/>
            <a:ext cx="8610480" cy="3533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2181240" y="3141720"/>
            <a:ext cx="576360" cy="934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4932360" y="3141720"/>
            <a:ext cx="576360" cy="934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7740720" y="3141720"/>
            <a:ext cx="576360" cy="934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2138400" y="4221000"/>
            <a:ext cx="576360" cy="935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5003640" y="4221000"/>
            <a:ext cx="576360" cy="9352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7740720" y="4235400"/>
            <a:ext cx="5763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6324" descr=""/>
          <p:cNvPicPr/>
          <p:nvPr/>
        </p:nvPicPr>
        <p:blipFill>
          <a:blip r:embed="rId1"/>
          <a:stretch/>
        </p:blipFill>
        <p:spPr>
          <a:xfrm>
            <a:off x="228600" y="1014480"/>
            <a:ext cx="8686800" cy="4829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4284720" y="206064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516720" y="378936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2124000" y="465300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4140360" y="4653000"/>
            <a:ext cx="576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5300" descr=""/>
          <p:cNvPicPr/>
          <p:nvPr/>
        </p:nvPicPr>
        <p:blipFill>
          <a:blip r:embed="rId1"/>
          <a:stretch/>
        </p:blipFill>
        <p:spPr>
          <a:xfrm>
            <a:off x="585720" y="2233440"/>
            <a:ext cx="7972560" cy="23911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4427640" y="3357720"/>
            <a:ext cx="576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4276" descr=""/>
          <p:cNvPicPr/>
          <p:nvPr/>
        </p:nvPicPr>
        <p:blipFill>
          <a:blip r:embed="rId1"/>
          <a:stretch/>
        </p:blipFill>
        <p:spPr>
          <a:xfrm>
            <a:off x="295200" y="847800"/>
            <a:ext cx="8553600" cy="51624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684360" y="4321080"/>
            <a:ext cx="4535280" cy="979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395280" y="5473800"/>
            <a:ext cx="799308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2232" descr=""/>
          <p:cNvPicPr/>
          <p:nvPr/>
        </p:nvPicPr>
        <p:blipFill>
          <a:blip r:embed="rId1"/>
          <a:stretch/>
        </p:blipFill>
        <p:spPr>
          <a:xfrm>
            <a:off x="266760" y="1185840"/>
            <a:ext cx="86104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17:5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